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7.gif" ContentType="image/gif"/>
  <Override PartName="/ppt/media/image18.wmf" ContentType="image/x-wmf"/>
  <Override PartName="/ppt/media/image12.jpeg" ContentType="image/jpeg"/>
  <Override PartName="/ppt/media/image10.wmf" ContentType="image/x-wmf"/>
  <Override PartName="/ppt/media/image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14.jpeg" ContentType="image/jpeg"/>
  <Override PartName="/ppt/media/image5.gif" ContentType="image/gi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568E-B76B-4435-8C01-6C0A386F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DB0E-DA9F-484D-AD4B-1ABE03C6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F8CE-58DF-445A-BB25-C2CE324F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5BD7-5699-4B13-ABA1-E4AB531F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0A36-08C6-4BC7-8147-B41A7F7B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578A-653C-419F-80EF-F4CD7B42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2A48-C0C2-4E4B-B4BB-93D388A3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0DAF-9CAE-4E9F-960B-B2AD6230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BE0E-7D79-4C5D-88C3-09D117D9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7B0F-53B0-4676-AF6E-1E9B3552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F4A5-48C7-4609-ACA8-39545AFC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D323-B4D7-446F-BAC5-61A5B249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EF2D-6049-4570-8393-0D412725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8DAD-22F7-4C44-BA57-0539BEFA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2A9A-EB6E-4012-BD92-D69FFFE8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18DA-6366-4B7C-B857-EBA96AA4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0322-EFC5-4D16-A8E8-2940A992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54129-0AAD-4AB1-A80E-0EC7C5B2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93239-7277-49C1-9649-326BDC01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DC5C4-1F9E-4A8F-B1C9-46045433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7E44D-7099-4D59-8EB3-74A5E09F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9CA5F-531A-4152-AD6A-5704CADC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6CE1-38CF-4067-81BA-5261895B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CF119-334B-41B3-947C-52806067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AF414-54A9-422C-B8A5-28A043E8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EAFB1-5A09-4CE3-BEDF-3B44BF35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101D7-5BCF-4C28-933E-EA82EB2F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FC84D-535D-417C-9A6A-372DFD20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3A691-EB15-4741-ADB4-15C9241A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0080D-9D90-4356-8307-742C281B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CF059-96C2-4F13-823C-975A54F7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69E5F-AE39-4457-BABD-9BD7BB38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DDAB7-3DF1-4EBC-B516-8F22AB35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F919-4074-4D1A-821F-919FD511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753E2-BB56-4BA7-B294-344EC13D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255B7-ACB7-4A72-9A82-3B2FA7C4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72126-D36B-4DEA-9A34-B9F14465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A8442-3A7D-48E9-AE6D-D02B6500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AD5D2-8870-48C4-914F-156A8F78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0CCCA-D673-41AA-BCC2-0205C853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1BD80-7739-4635-B314-67E07002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87DC2-B284-4327-9001-B5EFE571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EB25B-8B2C-4D6D-BCB4-D3035315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FF48-A262-47ED-835F-5FA7A1AA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73AE-E01C-4B19-B1FF-9A366596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9430-62B8-4F80-AA43-D7474399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D521-C93B-4D07-B172-550C7EB1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C1CA-02CE-4CC1-A0F8-BCDCD44F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2ED0-CDF9-4F76-8136-69B5461FE4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59FE-0A4A-4FFD-9ACA-7A4EFE22EC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514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7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8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9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F909-6214-45F7-86E8-55E2B900BA4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583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E771-F3AB-45A4-8B2B-849B5699EA0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20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755640" y="907920"/>
            <a:ext cx="727236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cc"/>
                </a:solidFill>
                <a:latin typeface="Bookman Old Style"/>
                <a:ea typeface="隶书"/>
              </a:rPr>
              <a:t>      </a:t>
            </a:r>
            <a:r>
              <a:rPr b="1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Unit 1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Good   friend</a:t>
            </a:r>
            <a:r>
              <a:rPr b="0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14400" y="8380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e-listening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143000" y="3124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990720" y="2362320"/>
          <a:ext cx="7391160" cy="2908080"/>
        </p:xfrm>
        <a:graphic>
          <a:graphicData uri="http://schemas.openxmlformats.org/drawingml/2006/table">
            <a:tbl>
              <a:tblPr/>
              <a:tblGrid>
                <a:gridCol w="1218960"/>
                <a:gridCol w="1752840"/>
                <a:gridCol w="1981080"/>
                <a:gridCol w="2438280"/>
              </a:tblGrid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143000" y="762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44"/>
                </a:solidFill>
                <a:latin typeface="Arial Black"/>
              </a:rPr>
              <a:t>The Third &amp; Fourth Peri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447920" y="20574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0" i="1" lang="en-US" sz="4000" spc="-1" strike="noStrike">
                <a:solidFill>
                  <a:srgbClr val="000044"/>
                </a:solidFill>
                <a:latin typeface="Arial Black"/>
              </a:rPr>
              <a:t>Re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71600" y="33526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44"/>
                </a:solidFill>
                <a:latin typeface="隶书"/>
                <a:ea typeface="隶书"/>
              </a:rPr>
              <a:t>任务 →目标 →语言技能 →活动形式→ 阅读教学模式 →教学思路 →教学程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914400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                         </a:t>
            </a: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1 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师生互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描写在孤岛上生存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情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2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个人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快读查找每段主题句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细读找出段落大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3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小组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讨论发表自己的意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4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班级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归纳学生意见，从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得出结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 flipH="1">
            <a:off x="2771640" y="0"/>
            <a:ext cx="60199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32767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3"/>
          <a:stretch/>
        </p:blipFill>
        <p:spPr>
          <a:xfrm>
            <a:off x="0" y="3243240"/>
            <a:ext cx="3809880" cy="361476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4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228600" y="53352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ere is the 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9160" y="1663560"/>
            <a:ext cx="62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at happened to hi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33920" y="23526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drift=cast awa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441972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Has he got a friend on the islan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0160" y="3083040"/>
            <a:ext cx="28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astaw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380880" y="838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would you        feel if you were alone  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thout frie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like the man?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57200" y="750960"/>
            <a:ext cx="830592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隶书"/>
              </a:rPr>
              <a:t>    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阅读教学模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独立阅读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合作交流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个性构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0" y="3830760"/>
            <a:ext cx="44956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143000" y="22096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86200" y="2286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666880" y="1981080"/>
            <a:ext cx="1143000" cy="60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90920" y="2743200"/>
            <a:ext cx="1143000" cy="533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09880" y="16765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A successful business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29718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Has little time for frie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9320" y="4114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895480" y="4190760"/>
            <a:ext cx="1219320" cy="533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876920"/>
            <a:ext cx="1143000" cy="609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733920" y="3886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The most difficult challe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114800" y="51055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Learn and understand the friend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0481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Times New Roman"/>
              </a:rPr>
              <a:t>The c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03480" y="3276720"/>
            <a:ext cx="549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6680" y="266688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 Gothic"/>
              </a:rPr>
              <a:t>What kind of person Chuck i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523880" y="2514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304920" y="2286000"/>
          <a:ext cx="8839080" cy="4154400"/>
        </p:xfrm>
        <a:graphic>
          <a:graphicData uri="http://schemas.openxmlformats.org/drawingml/2006/table">
            <a:tbl>
              <a:tblPr/>
              <a:tblGrid>
                <a:gridCol w="2860560"/>
                <a:gridCol w="2776680"/>
                <a:gridCol w="320184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ien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uman be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ima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-1219320" y="9907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228600"/>
            <a:ext cx="6705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457200" y="6858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How do you understand the following sentences in the passage</a:t>
            </a:r>
            <a:r>
              <a:rPr b="0" lang="en-US" sz="3600" spc="-1" strike="noStrike">
                <a:solidFill>
                  <a:srgbClr val="000044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22096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1).Friendship is about feelings and we must give as much as we tak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9480" y="37339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2).Friends are teach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4724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A life without a friend is a life without the su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>
            <a:hlinkClick r:id="rId1" action="ppaction://hlinksldjump"/>
          </p:cNvPr>
          <p:cNvSpPr/>
          <p:nvPr/>
        </p:nvSpPr>
        <p:spPr>
          <a:xfrm>
            <a:off x="0" y="6248520"/>
            <a:ext cx="590400" cy="407880"/>
          </a:xfrm>
          <a:custGeom>
            <a:avLst/>
            <a:gdLst>
              <a:gd name="textAreaLeft" fmla="*/ 243360 w 590400"/>
              <a:gd name="textAreaRight" fmla="*/ 347040 w 590400"/>
              <a:gd name="textAreaTop" fmla="*/ 168120 h 407880"/>
              <a:gd name="textAreaBottom" fmla="*/ 239760 h 40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 flipH="1" flipV="1">
            <a:off x="-900720" y="476280"/>
            <a:ext cx="21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38080" y="836640"/>
            <a:ext cx="747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ff00"/>
                </a:solidFill>
                <a:uFillTx/>
                <a:latin typeface="Comic Sans MS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1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  <a:ea typeface="隶书"/>
              </a:rPr>
              <a:t>教材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2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1" action="ppaction://hlinksldjump"/>
              </a:rPr>
              <a:t>教学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3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2" action="ppaction://hlinksldjump"/>
              </a:rPr>
              <a:t>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4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3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5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4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8200" y="5013360"/>
            <a:ext cx="33829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zh-CN" sz="48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5" action="ppaction://hlinksldjump"/>
              </a:rPr>
              <a:t>我的思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311120" y="457200"/>
            <a:ext cx="29782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5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1447920"/>
            <a:ext cx="327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种类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途径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内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形式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47840" y="1490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63840" y="1523880"/>
            <a:ext cx="54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过程性评价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终结性评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68360" y="2590920"/>
            <a:ext cx="68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学生自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师生互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生生互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19280" y="31240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反思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19640" y="312408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合作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79840" y="3809880"/>
            <a:ext cx="621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知—知识     技能—能力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情感—态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95640" y="5181480"/>
            <a:ext cx="69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口头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书面（建立个人学习档案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0960" y="5711760"/>
            <a:ext cx="753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elf-assessment      peer- assess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1" name=""/>
          <p:cNvGraphicFramePr/>
          <p:nvPr/>
        </p:nvGraphicFramePr>
        <p:xfrm>
          <a:off x="0" y="0"/>
          <a:ext cx="9144000" cy="69976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685800"/>
                <a:gridCol w="1981080"/>
                <a:gridCol w="182520"/>
                <a:gridCol w="17226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r l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re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the unit, you learnt about friends and friendship, how are you getting on with each of the following skills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b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w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need more practice  value 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ba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(using the number of the star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8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ing comprehens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about likes and dislik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an apolog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new words &amp;express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ing of the tex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 an e-m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2" name=""/>
          <p:cNvSpPr/>
          <p:nvPr/>
        </p:nvSpPr>
        <p:spPr>
          <a:xfrm>
            <a:off x="0" y="1981080"/>
            <a:ext cx="336600" cy="21600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04920" y="1905120"/>
            <a:ext cx="31428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05120"/>
            <a:ext cx="333360" cy="2347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98680" y="1990800"/>
            <a:ext cx="27936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43200" y="1981080"/>
            <a:ext cx="325440" cy="3049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84680" y="1994040"/>
            <a:ext cx="335160" cy="31104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18320" y="1963800"/>
            <a:ext cx="216000" cy="272880"/>
          </a:xfrm>
          <a:prstGeom prst="donut">
            <a:avLst>
              <a:gd name="adj" fmla="val 25000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286000" y="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flection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457200" y="685800"/>
          <a:ext cx="8001000" cy="6095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What have you learn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What is the most important thing you learnt ..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do you find the most difficul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Where do you see the most improvemen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What do you think you did bes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Where do you need to work harder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676520" y="22860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Peer Assess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52280" y="1066680"/>
          <a:ext cx="8991720" cy="5105520"/>
        </p:xfrm>
        <a:graphic>
          <a:graphicData uri="http://schemas.openxmlformats.org/drawingml/2006/table">
            <a:tbl>
              <a:tblPr/>
              <a:tblGrid>
                <a:gridCol w="3276720"/>
                <a:gridCol w="1066680"/>
                <a:gridCol w="1067040"/>
                <a:gridCol w="914400"/>
                <a:gridCol w="914400"/>
                <a:gridCol w="838080"/>
                <a:gridCol w="91440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姓       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小组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全班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提出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解答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查找资料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与人合作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2084040" y="374760"/>
            <a:ext cx="56030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备课后思索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1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教师备课的深广度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2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师生都提出了合作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3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教师需不断提高自身的知识水平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    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知识结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4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对新教材中新教学理念理会的深刻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93640" y="457200"/>
            <a:ext cx="36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隶书"/>
              </a:rPr>
              <a:t>上课后的思索</a:t>
            </a:r>
            <a:r>
              <a:rPr b="0" lang="zh-CN" sz="4400" spc="-1" strike="noStrike">
                <a:solidFill>
                  <a:srgbClr val="2c2ca0"/>
                </a:solidFill>
                <a:latin typeface="Arial"/>
                <a:ea typeface="隶书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1360" y="1447920"/>
            <a:ext cx="7940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42e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不断调整自己的思维模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2. 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灵活整合教学内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3.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讲究课堂教学的实效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228600" y="24382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  <a:ea typeface="隶书"/>
              </a:rPr>
              <a:t>Thank you for your atten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50920" y="1125360"/>
            <a:ext cx="108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55640" y="476280"/>
            <a:ext cx="863640" cy="5619600"/>
          </a:xfrm>
          <a:custGeom>
            <a:avLst/>
            <a:gdLst>
              <a:gd name="textAreaLeft" fmla="*/ 551880 w 863640"/>
              <a:gd name="textAreaRight" fmla="*/ 864000 w 863640"/>
              <a:gd name="textAreaTop" fmla="*/ 146520 h 5619600"/>
              <a:gd name="textAreaBottom" fmla="*/ 5473080 h 56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08000" y="0"/>
            <a:ext cx="373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背景知识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35280" y="649440"/>
            <a:ext cx="40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内容的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35280" y="1411200"/>
            <a:ext cx="31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763640" y="2173320"/>
            <a:ext cx="6026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语言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98d43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2" action="ppaction://hlinksldjump"/>
              </a:rPr>
              <a:t>Topic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Key words &amp;expres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Writ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Grammar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综合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德育思想渗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40360" y="4572000"/>
            <a:ext cx="503280" cy="19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72360" y="4221000"/>
            <a:ext cx="2965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朋友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生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意义的理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21360" y="747720"/>
            <a:ext cx="1731960" cy="85608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Topic</a:t>
            </a:r>
            <a:r>
              <a:rPr b="0" lang="en-US" sz="4400" spc="-1" strike="noStrike" u="sng">
                <a:solidFill>
                  <a:srgbClr val="cc3300"/>
                </a:solidFill>
                <a:uFillTx/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0920" y="1752480"/>
            <a:ext cx="9537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How to solve problems occurr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   </a:t>
            </a: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in the friendship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The attitude towards frie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Learn how to make fri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4284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89600" y="1397160"/>
            <a:ext cx="515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9999ff"/>
                </a:solidFill>
                <a:uFillTx/>
                <a:latin typeface="Century Gothic"/>
                <a:ea typeface="隶书"/>
                <a:hlinkClick r:id="rId1" action="ppaction://hlinksldjump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目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16000" y="1052640"/>
            <a:ext cx="647640" cy="43210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56840" y="576360"/>
            <a:ext cx="851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知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技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情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348000" y="260280"/>
            <a:ext cx="57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词汇的掌握和灵活运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语法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/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直接和间接引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1557360"/>
            <a:ext cx="374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习得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认知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交际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调控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03640" y="1989000"/>
            <a:ext cx="647640" cy="2019600"/>
          </a:xfrm>
          <a:custGeom>
            <a:avLst/>
            <a:gdLst>
              <a:gd name="textAreaLeft" fmla="*/ 414000 w 647640"/>
              <a:gd name="textAreaRight" fmla="*/ 648000 w 647640"/>
              <a:gd name="textAreaTop" fmla="*/ 52560 h 2019600"/>
              <a:gd name="textAreaBottom" fmla="*/ 1967040 h 20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08360" y="429264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端正学习态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培养合作精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59280" y="4437000"/>
            <a:ext cx="649080" cy="2019240"/>
          </a:xfrm>
          <a:custGeom>
            <a:avLst/>
            <a:gdLst>
              <a:gd name="textAreaLeft" fmla="*/ 414720 w 649080"/>
              <a:gd name="textAreaRight" fmla="*/ 649440 w 649080"/>
              <a:gd name="textAreaTop" fmla="*/ 52560 h 2019240"/>
              <a:gd name="textAreaBottom" fmla="*/ 1966680 h 20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45240" y="1036800"/>
            <a:ext cx="5158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3" action="ppaction://hlinksldjump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4" action="ppaction://hlinksldjump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5" action="ppaction://hlinksldjump"/>
              </a:rPr>
              <a:t>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6" action="ppaction://hlinksldjump"/>
              </a:rPr>
              <a:t>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16000" y="1052640"/>
            <a:ext cx="431640" cy="43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338040 h 4321080"/>
              <a:gd name="textAreaBottom" fmla="*/ 398304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27200" y="647640"/>
            <a:ext cx="25275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任务型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交际型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以人为本的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21520" y="554508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灵活性、流畅性、完整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450280" y="447840"/>
            <a:ext cx="531720" cy="85680"/>
          </a:xfrm>
          <a:custGeom>
            <a:avLst/>
            <a:gdLst>
              <a:gd name="textAreaLeft" fmla="*/ 218880 w 531720"/>
              <a:gd name="textAreaRight" fmla="*/ 312840 w 531720"/>
              <a:gd name="textAreaTop" fmla="*/ 35280 h 85680"/>
              <a:gd name="textAreaBottom" fmla="*/ 50400 h 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384200" y="0"/>
            <a:ext cx="33451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4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9120" y="1052640"/>
            <a:ext cx="846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设计的理念： 创设情景  营造气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面向学生   寓教于乐   创新思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7880" y="3529080"/>
            <a:ext cx="143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课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安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6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71480" y="2637000"/>
            <a:ext cx="67168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Ⅰ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Warming-up &amp;liste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Ⅱ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Speak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Ⅲ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&amp;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Ⅳ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Read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Ⅴ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Language study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Ⅵ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Integrat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-914400" y="-464976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143000" y="5335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i="1" lang="en-US" sz="4400" spc="-1" strike="noStrike">
                <a:solidFill>
                  <a:srgbClr val="0000ff"/>
                </a:solidFill>
                <a:latin typeface="Century Gothic"/>
              </a:rPr>
              <a:t>The First Peri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4920" y="24382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任务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目标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语言技能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活动形式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活动程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523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Century Gothic"/>
              </a:rPr>
              <a:t>Warming up &amp;Liste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3657600" y="4227480"/>
            <a:ext cx="42670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905120" y="2514600"/>
            <a:ext cx="3809880" cy="18288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38280" y="3048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2e78"/>
                </a:solidFill>
                <a:latin typeface="Times New Roman"/>
              </a:rPr>
              <a:t>A good fri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57400" y="1981080"/>
            <a:ext cx="609480" cy="83844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3581280" y="1600200"/>
            <a:ext cx="76320" cy="10666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648320" y="1828800"/>
            <a:ext cx="457200" cy="8380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409720" y="25146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10080" y="3733920"/>
            <a:ext cx="99072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52880" y="4114800"/>
            <a:ext cx="381240" cy="9144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3733560" y="4038480"/>
            <a:ext cx="228600" cy="11430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361960" y="41148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371600" y="3809880"/>
            <a:ext cx="91440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43000" y="2819520"/>
            <a:ext cx="914400" cy="6858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510552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I think a friend should be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good friend is someone who…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7621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99"/>
                </a:solidFill>
                <a:latin typeface="Lucida Console"/>
              </a:rPr>
              <a:t>Brainstor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7:32:08Z</dcterms:created>
  <dc:creator>Urse</dc:creator>
  <dc:description/>
  <dc:language>en-US</dc:language>
  <cp:lastModifiedBy>Administrator</cp:lastModifiedBy>
  <dcterms:modified xsi:type="dcterms:W3CDTF">2004-04-11T02:44:49Z</dcterms:modified>
  <cp:revision>115</cp:revision>
  <dc:subject/>
  <dc:title>PowerPoint 演示文稿</dc:title>
</cp:coreProperties>
</file>